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233-40F2-45F8-91D6-14C378B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772-6CE7-4323-ADD2-4A2FFB5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1FD-773B-47AF-9570-527D75C5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79F-4025-4DCA-814D-6B3EEE60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00B-8913-437B-86EE-032FA4B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DD6-CDF8-46DE-B594-6E011D1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67-49B9-46F7-8276-4D1D732C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C9D-AFC3-4788-BE72-C0D40CB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5AC-C2FE-467B-A53B-AB6E002F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47E-14E4-4B2A-BE05-031BA7A3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563-7936-477B-B33D-15326EA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E6B-2600-4BE7-9BB8-594CD1B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F53-10C8-4E7A-B0EB-D5F7D2488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E9D-552A-445F-B8B9-1EA4E8555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udent-Led 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Strengths I brought to Galil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ttitude &amp;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 will be a different learner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I will face going back to mainstream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alileo – Initi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learn be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work in a tea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Highl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goals (1 - ski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2 - knowled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3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4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chievement 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chievement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Placeholder 3"/>
          <p:cNvSpPr/>
          <p:nvPr/>
        </p:nvSpPr>
        <p:spPr>
          <a:xfrm>
            <a:off x="4788000" y="1401840"/>
            <a:ext cx="40399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ttitude &amp; Effort 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Christopher MCCAW</cp:lastModifiedBy>
  <dcterms:modified xsi:type="dcterms:W3CDTF">2012-12-06T21:47:39Z</dcterms:modified>
  <cp:revision>12</cp:revision>
  <dc:subject/>
  <dc:title>Name</dc:title>
</cp:coreProperties>
</file>